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EAB-6645-4A4D-9659-F709EB3A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326-BB40-46BD-B615-ED7C3758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0C4-110C-47FF-A757-24780A79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759-9D53-43E1-AD38-BC31DE9B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923-4940-469C-84DA-8ED87A1B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593-D276-4E0E-BF24-AE2CB7EA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044-CB26-4ED4-831A-4EB687B6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D15-35DD-4B3E-88D7-C6351D0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4EC-8777-47AB-B7A8-3D10F7E3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9FF-A469-4027-B0D8-026B56A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E8A-5A1B-48CF-B9D6-BDA4819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0AF-4F00-4D18-92B9-22D91E6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2099-76FC-4D91-BDBF-C35BDE8B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ddle Ages: Western Europ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00’s - 1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6360" y="1828800"/>
            <a:ext cx="775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s to family identifications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dieval Europe.  Royal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ntified themselves with cres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decorative symbol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.g. Tudors; Stuarts; Hapsbur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henstaufens; Bourb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99072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erald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78Royalty 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4500" r="0" b="7500"/>
          <a:stretch/>
        </p:blipFill>
        <p:spPr>
          <a:xfrm>
            <a:off x="533520" y="228600"/>
            <a:ext cx="8129520" cy="536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5320" y="5562720"/>
            <a:ext cx="843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dieval dress styles in England (1400s): Judg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tleman, Lady of rank, courtier, lady of 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79haw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9000" t="0" r="9000" b="0"/>
          <a:stretch/>
        </p:blipFill>
        <p:spPr>
          <a:xfrm>
            <a:off x="2478240" y="304920"/>
            <a:ext cx="6665760" cy="6097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2160" y="1066680"/>
            <a:ext cx="2209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Hawki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die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t am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amp;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1240" y="1828800"/>
            <a:ext cx="8419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received extensive tra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ning with service as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ag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t about the age of seve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t about the age of 14 a page c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come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quir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nally at about the age of 21, a squ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come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knigh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0440" y="228600"/>
            <a:ext cx="845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Knigh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ere the warriors that fought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half of kings and nob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24kn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52120" y="426960"/>
            <a:ext cx="71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ighting ceremony (14thc manu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23swearing fea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4640" y="6095880"/>
            <a:ext cx="47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wearing fealty to the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7360" y="1905120"/>
            <a:ext cx="8718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s to the Code of ethics adh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by knigh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entailed courage, loyalty, honor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eness, protection, of 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or Lord); of women &amp; children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&amp; of the “Holy Mother Church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6400" y="914400"/>
            <a:ext cx="21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ival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216Military costu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7500" r="0" b="7500"/>
          <a:stretch/>
        </p:blipFill>
        <p:spPr>
          <a:xfrm>
            <a:off x="457200" y="533520"/>
            <a:ext cx="8129520" cy="5182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86720" y="5867280"/>
            <a:ext cx="641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ilitary Costumes of 15th c kn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48320" y="68580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215knightarm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5875" t="0" r="25875" b="0"/>
          <a:stretch/>
        </p:blipFill>
        <p:spPr>
          <a:xfrm>
            <a:off x="4648320" y="457200"/>
            <a:ext cx="3922560" cy="609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9240" y="2043000"/>
            <a:ext cx="419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mo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became obso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middle o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th c. because it d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protect well enou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ainst g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217knight/ho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6875" t="0" r="16875" b="0"/>
          <a:stretch/>
        </p:blipFill>
        <p:spPr>
          <a:xfrm>
            <a:off x="3352680" y="380880"/>
            <a:ext cx="5386680" cy="6097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4680" y="152388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Horse Ar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1400" y="1371600"/>
            <a:ext cx="8692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centralized form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nd in Western Europe after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ll of the Roman Emp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• 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gs” and Nobles fought ea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for territory &amp; the alleg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609480"/>
            <a:ext cx="266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219jo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1250" t="0" r="11250" b="0"/>
          <a:stretch/>
        </p:blipFill>
        <p:spPr>
          <a:xfrm>
            <a:off x="2362320" y="380880"/>
            <a:ext cx="6300720" cy="6097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3320" y="1309680"/>
            <a:ext cx="18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ou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3th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220tourna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47160" y="6156360"/>
            <a:ext cx="44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4th c .Tourna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0760" y="1295280"/>
            <a:ext cx="905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astle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f early Medieval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re fortresses built for protection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emies.  They were surrounded by a mo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&amp; had only a few (small) window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were basically self-suffic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 storage rooms &amp; craft shops. 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reas were mostly dark &amp; cold with f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cor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2160" y="33480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ast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50120" cy="5027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94000" y="5500800"/>
            <a:ext cx="436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edieval Cas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15Fort/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43360" y="56340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edieval Fort/Cas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14Eng fort/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86880" y="426960"/>
            <a:ext cx="584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 fort/cas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medieval military archite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35Castle/W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11040" y="6278400"/>
            <a:ext cx="68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ins of a Fort/Castle in Wales,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31Edinburgh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6200" y="62164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dinburgh castle in Sco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4120" y="609480"/>
            <a:ext cx="2590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D216wall-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0250" t="0" r="20250" b="0"/>
          <a:stretch/>
        </p:blipFill>
        <p:spPr>
          <a:xfrm>
            <a:off x="4032360" y="228600"/>
            <a:ext cx="483696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1840" y="1143000"/>
            <a:ext cx="379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Wall-w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 a Britis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keep wat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to defend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stle from ass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19drawbri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56160" y="59580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120" y="5973840"/>
            <a:ext cx="28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rawbri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58800" y="390600"/>
            <a:ext cx="586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eud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eudal comes from the Latin word 'feudum' meaning 'land'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t’s take a look at the structure of feudalism with a focus on England after the invasion of William of Norman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3786120"/>
            <a:ext cx="4952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26Tower of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910200" cy="518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50440" y="5667480"/>
            <a:ext cx="78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wer of London; Royal residence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cluded water moat; outer &amp; inner wa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228chapel in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13320" y="6095880"/>
            <a:ext cx="88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pels in castles were common in Medieval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80" y="2209680"/>
            <a:ext cx="9302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ilding complexes where monks liv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laces of refug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feudal Europ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nks who lived there engaged in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ay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od works, agricultural projects, &amp; vario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rts &amp; crafts such as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pying manuscrip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&amp; making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tained glass window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360" y="1666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4760" y="990720"/>
            <a:ext cx="33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Monaste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68StBen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60monastery/Scottish is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29880" cy="6097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48000" y="228600"/>
            <a:ext cx="792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steries, such as this one on a Scottish is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d as havens for Christianity and Wes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zation in an era of barbarism after the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Roman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67Mon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1376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0080" y="5715000"/>
            <a:ext cx="827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nedictine Abbey. From here colonies of monks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 &amp; converted many Germanic tribes to Christia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70760" cy="4932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7560" y="5334120"/>
            <a:ext cx="695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Old English Text MT"/>
              </a:rPr>
              <a:t>Monk in monastery, cop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Old English Text MT"/>
              </a:rPr>
              <a:t>religious &amp; classical tex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4192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1219320"/>
            <a:ext cx="3076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die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ook c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duced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onast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033800" y="4680"/>
            <a:ext cx="5110200" cy="6853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000" y="533520"/>
            <a:ext cx="3719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Medie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Stained Gl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Wind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onastic cra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 artist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&amp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ducat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ignific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60" y="1279440"/>
            <a:ext cx="8864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could be 300 acres or 3000 acr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was a self-sufficient village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cluded a “castle” or Lord’s hous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asant (serf) houses, a church, craf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ops, fields, woods, &amp; flour mill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Lord made and enforced the law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Mano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enjoyed weddings, baptism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ess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760" y="0"/>
            <a:ext cx="857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Mano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fers to a large estate contro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y a Lord or no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892160"/>
            <a:ext cx="1371600" cy="185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1757520" cy="179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038480"/>
            <a:ext cx="82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s King of England, William owned all the land in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only person above the King was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4720" y="1219320"/>
            <a:ext cx="8908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re peasant farmers who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ound to the soil” (not allow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ve the Manor where they were born).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might have garden &amp; a few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r themselves, but they also perform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orve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abor for the Lor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lived in primitive one-room ho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 dirt floors &amp; usually no chimne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8720" y="4572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erf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6250" t="0" r="0" b="14815"/>
          <a:stretch/>
        </p:blipFill>
        <p:spPr>
          <a:xfrm>
            <a:off x="685800" y="0"/>
            <a:ext cx="7907400" cy="6062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36280" y="6095880"/>
            <a:ext cx="392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dieval Ma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4Pea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06000" y="609588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elebration at the end of a harv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6Pea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37320" y="6278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dieval serf celebration after a harv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04120" cy="5506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81280" y="589752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rfs on a Medieval Ma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7Man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3000" r="0" b="3000"/>
          <a:stretch/>
        </p:blipFill>
        <p:spPr>
          <a:xfrm>
            <a:off x="533520" y="304920"/>
            <a:ext cx="8129520" cy="5732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2040" y="6156360"/>
            <a:ext cx="57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fe on a medieval ma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403880" y="6238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00200"/>
            <a:ext cx="9271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ganizations of craftsmen &amp; merch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at established prices, standards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lic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also provided s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tual aid in times of ne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each had a “patron saint” and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joyed weddings, baptisms, &amp; holid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elebrations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8360" y="5335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Gui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Master of the Guild 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ned and managed a shop (hats,shoes, tools, etc)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1480" y="1600200"/>
            <a:ext cx="84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trained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Apprentice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ho learned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raft in exchange for Room &amp; boar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200400"/>
            <a:ext cx="85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t about age 21 the apprentice became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Journeym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&amp; received wag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4648320"/>
            <a:ext cx="870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ter he might produce a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masterpiec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&amp; qualify for a license to open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wn shop &amp; hire his own appren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9720" y="1112760"/>
            <a:ext cx="75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ccurred partly as a result of “Fair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ich were held periodically 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signated pla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2920" y="304920"/>
            <a:ext cx="86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The Rise of Towns in Medieval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520" y="3505320"/>
            <a:ext cx="8466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se gatherings of craftsmen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rchants eventually became perma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cations where people lived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turning to the Manor.  e.g Oxford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mbri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1640" y="761760"/>
            <a:ext cx="3886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7MedievalT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0250" t="0" r="20250" b="0"/>
          <a:stretch/>
        </p:blipFill>
        <p:spPr>
          <a:xfrm>
            <a:off x="3809880" y="304920"/>
            <a:ext cx="4837320" cy="6097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1680" y="1371600"/>
            <a:ext cx="3215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dieval 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ws a lac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fter the fall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man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rrow, cr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reets; lack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n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e Tenants in Chie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267080"/>
            <a:ext cx="829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were the 200 or so most important people in England.  King William gave them land and they promised to help him rule and provide knights for his ar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1689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n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ddle Ages: Western Europ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00s - 1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Under-Ten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3800" y="42940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76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Tenants-in-Chief gave away some of their land to knights.  The knights had to promise to obey the Tenants-in-Chief and provide services for them.  There were around 5000 Under-Tenants in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20131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e Peasants (Villein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7242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Under-Tenants would let their land be used by the peasants.  In return, the peasants had to obey the Under-Tenants and work extremely hard for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2000" r="0" b="12000"/>
          <a:stretch/>
        </p:blipFill>
        <p:spPr>
          <a:xfrm>
            <a:off x="1752480" y="1523880"/>
            <a:ext cx="5715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1127160" cy="15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43800" y="1828800"/>
            <a:ext cx="11588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768760" y="1828800"/>
            <a:ext cx="115884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156280" y="1828800"/>
            <a:ext cx="11588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0880" y="1828800"/>
            <a:ext cx="11588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3809880"/>
            <a:ext cx="1828800" cy="1143000"/>
            <a:chOff x="76320" y="3809880"/>
            <a:chExt cx="1828800" cy="1143000"/>
          </a:xfrm>
        </p:grpSpPr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7632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68940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30248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2463840" y="3809880"/>
            <a:ext cx="1828800" cy="1143000"/>
            <a:chOff x="2463840" y="3809880"/>
            <a:chExt cx="1828800" cy="1143000"/>
          </a:xfrm>
        </p:grpSpPr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246384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307692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369000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851360" y="3809880"/>
            <a:ext cx="1828800" cy="1143000"/>
            <a:chOff x="4851360" y="3809880"/>
            <a:chExt cx="1828800" cy="1143000"/>
          </a:xfrm>
        </p:grpSpPr>
        <p:pic>
          <p:nvPicPr>
            <p:cNvPr id="76" name="" descr=""/>
            <p:cNvPicPr/>
            <p:nvPr/>
          </p:nvPicPr>
          <p:blipFill>
            <a:blip r:embed="rId12"/>
            <a:stretch/>
          </p:blipFill>
          <p:spPr>
            <a:xfrm>
              <a:off x="485136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3"/>
            <a:stretch/>
          </p:blipFill>
          <p:spPr>
            <a:xfrm>
              <a:off x="546444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4"/>
            <a:stretch/>
          </p:blipFill>
          <p:spPr>
            <a:xfrm>
              <a:off x="607752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"/>
          <p:cNvGrpSpPr/>
          <p:nvPr/>
        </p:nvGrpSpPr>
        <p:grpSpPr>
          <a:xfrm>
            <a:off x="7238880" y="3809880"/>
            <a:ext cx="1828800" cy="1143000"/>
            <a:chOff x="7238880" y="3809880"/>
            <a:chExt cx="1828800" cy="1143000"/>
          </a:xfrm>
        </p:grpSpPr>
        <p:pic>
          <p:nvPicPr>
            <p:cNvPr id="80" name="" descr=""/>
            <p:cNvPicPr/>
            <p:nvPr/>
          </p:nvPicPr>
          <p:blipFill>
            <a:blip r:embed="rId15"/>
            <a:stretch/>
          </p:blipFill>
          <p:spPr>
            <a:xfrm>
              <a:off x="723888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6"/>
            <a:stretch/>
          </p:blipFill>
          <p:spPr>
            <a:xfrm>
              <a:off x="785196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7"/>
            <a:stretch/>
          </p:blipFill>
          <p:spPr>
            <a:xfrm>
              <a:off x="8465040" y="3809880"/>
              <a:ext cx="60264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18"/>
          <a:srcRect l="0" t="12000" r="0" b="12000"/>
          <a:stretch/>
        </p:blipFill>
        <p:spPr>
          <a:xfrm flipH="1">
            <a:off x="7596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9"/>
          <a:srcRect l="0" t="12000" r="0" b="12000"/>
          <a:stretch/>
        </p:blipFill>
        <p:spPr>
          <a:xfrm flipH="1">
            <a:off x="570348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0"/>
          <a:srcRect l="0" t="12000" r="0" b="12000"/>
          <a:stretch/>
        </p:blipFill>
        <p:spPr>
          <a:xfrm flipH="1">
            <a:off x="113328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1"/>
          <a:srcRect l="0" t="12000" r="0" b="12000"/>
          <a:stretch/>
        </p:blipFill>
        <p:spPr>
          <a:xfrm flipH="1">
            <a:off x="237312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2"/>
          <a:srcRect l="0" t="12000" r="0" b="12000"/>
          <a:stretch/>
        </p:blipFill>
        <p:spPr>
          <a:xfrm flipH="1">
            <a:off x="342864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3"/>
          <a:srcRect l="0" t="12000" r="0" b="12000"/>
          <a:stretch/>
        </p:blipFill>
        <p:spPr>
          <a:xfrm flipH="1">
            <a:off x="464796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4"/>
          <a:srcRect l="0" t="12000" r="0" b="12000"/>
          <a:stretch/>
        </p:blipFill>
        <p:spPr>
          <a:xfrm flipH="1">
            <a:off x="6933960" y="5257800"/>
            <a:ext cx="1066680" cy="60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5"/>
          <a:srcRect l="0" t="12000" r="0" b="12000"/>
          <a:stretch/>
        </p:blipFill>
        <p:spPr>
          <a:xfrm flipH="1">
            <a:off x="7989480" y="5257800"/>
            <a:ext cx="106668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1480" y="1600200"/>
            <a:ext cx="891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Kings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 r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rulers who compe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 each other &amp; with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oble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or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 territory &amp; peoples’ allegianc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night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were the warriors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ght in behalf of kings and no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7680" y="838080"/>
            <a:ext cx="66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Feudalism in Wester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6:50:26Z</dcterms:created>
  <dc:creator>Pat Neils</dc:creator>
  <dc:description/>
  <dc:language>en-US</dc:language>
  <cp:lastModifiedBy>Susan Gregory</cp:lastModifiedBy>
  <dcterms:modified xsi:type="dcterms:W3CDTF">2004-09-14T06:15:57Z</dcterms:modified>
  <cp:revision>91</cp:revision>
  <dc:subject/>
  <dc:title>PowerPoint Presentation</dc:title>
</cp:coreProperties>
</file>